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5BE-5642-4B9B-8EF8-332DA983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1FA-987F-4260-B18A-385F3A88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5C3-52D0-4470-9707-FC29208B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EB6-AF00-4646-8EE3-563A64DB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036E7-5B28-41E3-865D-D1ECE7D0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985D5-0B9D-4775-87CE-72639AD0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0A21B-FB03-4085-9CF7-D81CCA3C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D78C1-1693-49BC-9A7E-DE832A56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73BA8-A773-44D0-A146-6028B8BE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073AA-3CB8-44FD-9765-D2000DED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D4144-2F8D-40FF-A383-CE989ECF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D5EA-C1D8-41D5-A615-BEDBD253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92A7F-E7AE-470A-B0B2-8B8173D8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D56C5-B9C4-40AF-9947-0B3CBC43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7A898-EADD-41AA-826F-DB654D82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423F5-6A99-494D-9574-2B4B14BB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D54C3-C2D7-4EB6-95AE-58572905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8AD47-F6AD-4C2C-A35E-E7221929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5CEFD-F47C-4753-AA99-A20A6998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B95DE-4DFD-4AD2-857F-02E61838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F67D6-775A-44C1-8D0E-13135622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C0B1-4058-4B28-88B5-891102CA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CC2-F501-4609-B8AA-CB1AFEE2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6488F-CF44-447F-8C09-7C423E3D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EA00C-4EE9-4F3F-AACC-2A2CE2F4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50B9F-509D-488E-977F-C6641279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5DD3E-C5E7-4700-8C8F-BAFB5F6A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C938D-E1EF-4D43-8640-D9908092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60EEC-2777-4E01-9ADD-0243F2BA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C5B9B-66EA-4760-91B2-47AB2A30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E4B59-9FE1-418A-AA0D-B72F7423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77044-700C-4E3D-AB20-39F30E78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8CD12-6603-42D9-83FF-640BC62D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B95-6127-496E-B2F4-DF0234C2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F03D0-1DF9-49A0-A391-469A33BD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305C7-3D51-463F-B640-06FE9842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56C65-8221-4862-A012-E1A2F2AA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359C-19F5-4D75-9893-068E21A0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39140-52F6-4B7A-83E2-74F9D2D0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CDB4E-921F-40D1-BFE1-70677C50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198D1-E4BF-4C08-A064-000CEBA8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BA4E4-E957-4FBF-A2E0-C29E6BF4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45AD9-A6E2-460F-AC5E-0BA78530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B0C-61AA-4262-9DA3-2D52B07D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441-9F9E-498B-B367-E2A655C8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54C-E907-42F5-89A7-3C79118E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330-042C-4421-9F1C-1F6F0D7D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7AB-69BF-499B-A405-ABCBC4F3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23DC-28D0-42F5-979D-B1CCADBD3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4CDA-45B0-4AF3-91AB-4D5C2BB8FB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2966-B10A-49AF-AD7E-AB895EB75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FE87-0AAB-462C-A15B-9F93FC5360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www.spanishdict.com/translate/jugo" TargetMode="External"/><Relationship Id="rId7" Type="http://schemas.openxmlformats.org/officeDocument/2006/relationships/hyperlink" Target="http://www.spanishdict.com/translate/de" TargetMode="External"/><Relationship Id="rId8" Type="http://schemas.openxmlformats.org/officeDocument/2006/relationships/hyperlink" Target="http://www.spanishdict.com/translate/naranja" TargetMode="External"/><Relationship Id="rId9" Type="http://schemas.openxmlformats.org/officeDocument/2006/relationships/hyperlink" Target="http://www.spanishdict.com/translate/gofre" TargetMode="External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as comid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justin bour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desayun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 el desyuno me gusta com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77760" y="4608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77760" y="4608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3400560" y="2681280"/>
            <a:ext cx="2342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3400560" y="2681280"/>
            <a:ext cx="2342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77760" y="46080"/>
            <a:ext cx="23432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471840" y="2695680"/>
            <a:ext cx="2200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3471840" y="2695680"/>
            <a:ext cx="2200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4267080" y="5105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20"/>
          <p:cNvSpPr/>
          <p:nvPr/>
        </p:nvSpPr>
        <p:spPr>
          <a:xfrm>
            <a:off x="77760" y="46080"/>
            <a:ext cx="2200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2"/>
          <p:cNvSpPr/>
          <p:nvPr/>
        </p:nvSpPr>
        <p:spPr>
          <a:xfrm>
            <a:off x="3990960" y="2652840"/>
            <a:ext cx="116208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24"/>
          <p:cNvSpPr/>
          <p:nvPr/>
        </p:nvSpPr>
        <p:spPr>
          <a:xfrm>
            <a:off x="77760" y="46080"/>
            <a:ext cx="1162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3990960" y="2652840"/>
            <a:ext cx="116208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28"/>
          <p:cNvSpPr/>
          <p:nvPr/>
        </p:nvSpPr>
        <p:spPr>
          <a:xfrm>
            <a:off x="3538440" y="2652840"/>
            <a:ext cx="206712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30"/>
          <p:cNvSpPr/>
          <p:nvPr/>
        </p:nvSpPr>
        <p:spPr>
          <a:xfrm>
            <a:off x="77760" y="46080"/>
            <a:ext cx="2067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32"/>
          <p:cNvSpPr/>
          <p:nvPr/>
        </p:nvSpPr>
        <p:spPr>
          <a:xfrm>
            <a:off x="3471840" y="2695680"/>
            <a:ext cx="2200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34"/>
          <p:cNvSpPr/>
          <p:nvPr/>
        </p:nvSpPr>
        <p:spPr>
          <a:xfrm>
            <a:off x="3471840" y="2695680"/>
            <a:ext cx="2200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6"/>
          <p:cNvSpPr/>
          <p:nvPr/>
        </p:nvSpPr>
        <p:spPr>
          <a:xfrm>
            <a:off x="3471840" y="2695680"/>
            <a:ext cx="2200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38" descr="Waffles"/>
          <p:cNvPicPr/>
          <p:nvPr/>
        </p:nvPicPr>
        <p:blipFill>
          <a:blip r:embed="rId1"/>
          <a:stretch/>
        </p:blipFill>
        <p:spPr>
          <a:xfrm>
            <a:off x="0" y="2743200"/>
            <a:ext cx="2438280" cy="1627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0" descr="20090723cereal"/>
          <p:cNvPicPr/>
          <p:nvPr/>
        </p:nvPicPr>
        <p:blipFill>
          <a:blip r:embed="rId2"/>
          <a:stretch/>
        </p:blipFill>
        <p:spPr>
          <a:xfrm>
            <a:off x="3886200" y="2362320"/>
            <a:ext cx="1488960" cy="2276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2" descr="42279-bagels"/>
          <p:cNvPicPr/>
          <p:nvPr/>
        </p:nvPicPr>
        <p:blipFill>
          <a:blip r:embed="rId3"/>
          <a:stretch/>
        </p:blipFill>
        <p:spPr>
          <a:xfrm>
            <a:off x="6400800" y="2286000"/>
            <a:ext cx="2543040" cy="2033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4" descr="amazing_fun_weird_cool_3267513438_77f6a7c3cb_o_20090724184340569"/>
          <p:cNvPicPr/>
          <p:nvPr/>
        </p:nvPicPr>
        <p:blipFill>
          <a:blip r:embed="rId4"/>
          <a:stretch/>
        </p:blipFill>
        <p:spPr>
          <a:xfrm>
            <a:off x="6553080" y="5181480"/>
            <a:ext cx="1619280" cy="1443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6" descr="orange-juice342101"/>
          <p:cNvPicPr/>
          <p:nvPr/>
        </p:nvPicPr>
        <p:blipFill>
          <a:blip r:embed="rId5"/>
          <a:stretch/>
        </p:blipFill>
        <p:spPr>
          <a:xfrm>
            <a:off x="380880" y="480060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7"/>
          <p:cNvSpPr/>
          <p:nvPr/>
        </p:nvSpPr>
        <p:spPr>
          <a:xfrm>
            <a:off x="2971800" y="6019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jug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8"/>
          <p:cNvSpPr/>
          <p:nvPr/>
        </p:nvSpPr>
        <p:spPr>
          <a:xfrm>
            <a:off x="0" y="22096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9"/>
          <p:cNvSpPr/>
          <p:nvPr/>
        </p:nvSpPr>
        <p:spPr>
          <a:xfrm>
            <a:off x="228600" y="2438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gof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0"/>
          <p:cNvSpPr/>
          <p:nvPr/>
        </p:nvSpPr>
        <p:spPr>
          <a:xfrm>
            <a:off x="3352680" y="4800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whea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1"/>
          <p:cNvSpPr/>
          <p:nvPr/>
        </p:nvSpPr>
        <p:spPr>
          <a:xfrm>
            <a:off x="4876920" y="4876920"/>
            <a:ext cx="2133360" cy="36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53"/>
          <p:cNvSpPr/>
          <p:nvPr/>
        </p:nvSpPr>
        <p:spPr>
          <a:xfrm>
            <a:off x="4956840" y="62485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anque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4"/>
          <p:cNvSpPr/>
          <p:nvPr/>
        </p:nvSpPr>
        <p:spPr>
          <a:xfrm>
            <a:off x="7242480" y="4419720"/>
            <a:ext cx="134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osqu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almuerz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 el almuerzo me gusta com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Picture 5" descr="1212435355_c38a6840c6"/>
          <p:cNvPicPr/>
          <p:nvPr/>
        </p:nvPicPr>
        <p:blipFill>
          <a:blip r:embed="rId1"/>
          <a:stretch/>
        </p:blipFill>
        <p:spPr>
          <a:xfrm>
            <a:off x="228600" y="2286000"/>
            <a:ext cx="2685960" cy="2079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grilledcheese"/>
          <p:cNvPicPr/>
          <p:nvPr/>
        </p:nvPicPr>
        <p:blipFill>
          <a:blip r:embed="rId2"/>
          <a:stretch/>
        </p:blipFill>
        <p:spPr>
          <a:xfrm>
            <a:off x="3505320" y="2362320"/>
            <a:ext cx="2652480" cy="201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chicken%20soup(1)"/>
          <p:cNvPicPr/>
          <p:nvPr/>
        </p:nvPicPr>
        <p:blipFill>
          <a:blip r:embed="rId3"/>
          <a:stretch/>
        </p:blipFill>
        <p:spPr>
          <a:xfrm>
            <a:off x="6858000" y="2286000"/>
            <a:ext cx="1886040" cy="1879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Fresh%20Fruit%20Cup"/>
          <p:cNvPicPr/>
          <p:nvPr/>
        </p:nvPicPr>
        <p:blipFill>
          <a:blip r:embed="rId4"/>
          <a:stretch/>
        </p:blipFill>
        <p:spPr>
          <a:xfrm>
            <a:off x="762120" y="472428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13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17" descr="lemonade_honeycitrus"/>
          <p:cNvPicPr/>
          <p:nvPr/>
        </p:nvPicPr>
        <p:blipFill>
          <a:blip r:embed="rId5"/>
          <a:stretch/>
        </p:blipFill>
        <p:spPr>
          <a:xfrm>
            <a:off x="4876920" y="4419720"/>
            <a:ext cx="1657080" cy="22096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2"/>
          <p:cNvSpPr/>
          <p:nvPr/>
        </p:nvSpPr>
        <p:spPr>
          <a:xfrm>
            <a:off x="91440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fru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7010280" y="41911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sopa de po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609480" y="4495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boccidi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629400" y="6095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limon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16"/>
          <p:cNvSpPr/>
          <p:nvPr/>
        </p:nvSpPr>
        <p:spPr>
          <a:xfrm>
            <a:off x="3657600" y="4572000"/>
            <a:ext cx="106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queso a la planc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ce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 la cena me gust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7" name="Picture 5" descr="http://images-partners-tbn.google.com/images?q=tbn:ANd9GcRk5qar1f8CC7-xZzNOvbKEoJI_wI50JJ8NPJjJs35J9scPzDqksPzAgQ:www.thegutsygourmet.net/spaghetti.gif"/>
          <p:cNvPicPr/>
          <p:nvPr/>
        </p:nvPicPr>
        <p:blipFill>
          <a:blip r:embed="rId1"/>
          <a:stretch/>
        </p:blipFill>
        <p:spPr>
          <a:xfrm>
            <a:off x="609480" y="2362320"/>
            <a:ext cx="1828800" cy="1547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http://images-partners-tbn.google.com/images?q=tbn:ANd9GcQ2J89JW6yRzhLVHanD-9WNdXl2E0_oK1lPNIX2Gde_rTGYWK12m_-io5A:www.thisblogrules.com/wp-content/uploads/2010/12/club-sandwhich.jpg"/>
          <p:cNvPicPr/>
          <p:nvPr/>
        </p:nvPicPr>
        <p:blipFill>
          <a:blip r:embed="rId2"/>
          <a:stretch/>
        </p:blipFill>
        <p:spPr>
          <a:xfrm>
            <a:off x="3657600" y="2362320"/>
            <a:ext cx="1905120" cy="1447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http://images-partners-tbn.google.com/images?q=tbn:ANd9GcRjVoeIyJXE-wosa25C84d74qONsCNPHdVnVoQZpme4CSJgxw7AU4Ehrg:www.steakeaters.com/wp-content/uploads/2010/05/flat-iron-steak.jpg"/>
          <p:cNvPicPr/>
          <p:nvPr/>
        </p:nvPicPr>
        <p:blipFill>
          <a:blip r:embed="rId3"/>
          <a:stretch/>
        </p:blipFill>
        <p:spPr>
          <a:xfrm>
            <a:off x="685800" y="4724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http://images-partners-tbn.google.com/images?q=tbn:ANd9GcTvRKHMJC0horcjxVBMA-FBF4Jh7JYhIZI_NEvy8GoFSkI4NOCovsmvnY0:blogs.knoxnews.com/knx/brown/Dr%252BPepper%252B20%252BOZ.jpg"/>
          <p:cNvPicPr/>
          <p:nvPr/>
        </p:nvPicPr>
        <p:blipFill>
          <a:blip r:embed="rId4"/>
          <a:stretch/>
        </p:blipFill>
        <p:spPr>
          <a:xfrm>
            <a:off x="6019920" y="4419720"/>
            <a:ext cx="657000" cy="17589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0"/>
          <p:cNvSpPr/>
          <p:nvPr/>
        </p:nvSpPr>
        <p:spPr>
          <a:xfrm>
            <a:off x="3733920" y="3886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bodill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838080" y="64771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bift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685800" y="39625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espague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6019920" y="62485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 pep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15" descr="oscars_bbq_ribs.jpg"/>
          <p:cNvPicPr/>
          <p:nvPr/>
        </p:nvPicPr>
        <p:blipFill>
          <a:blip r:embed="rId5"/>
          <a:stretch/>
        </p:blipFill>
        <p:spPr>
          <a:xfrm>
            <a:off x="6019920" y="1676520"/>
            <a:ext cx="2635200" cy="19047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6172200" y="3581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costil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4:00Z</dcterms:created>
  <dc:creator>bourquejus</dc:creator>
  <dc:description/>
  <dc:language>en-US</dc:language>
  <cp:lastModifiedBy>Owner</cp:lastModifiedBy>
  <dcterms:modified xsi:type="dcterms:W3CDTF">2011-04-26T00:44:49Z</dcterms:modified>
  <cp:revision>6</cp:revision>
  <dc:subject/>
  <dc:title>Las comidas</dc:title>
</cp:coreProperties>
</file>